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D99-84A7-43AA-8F20-E879AE24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177-D734-4B5A-8D50-451C0274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F50-E1F4-45A3-B948-A535E24E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D96-DBC0-4A35-B630-09C153C0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B95-9EEF-4CCA-884A-F28E6B34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487-DDD3-469B-A39B-E3832E3C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F93-DED2-48D5-98ED-E6BD2FF3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D03-5F66-4CB9-8F4F-CBC6009A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FB4-FC8D-4733-9C03-56613CC7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72C-BBBD-4A2A-8D6E-1B641FB6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ACF-014B-46C9-B135-10CB3B2E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C0A-06DA-4C2F-8603-3CFD822B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9A46-B37A-440A-8F17-C286C055E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762120"/>
            <a:ext cx="5790960" cy="21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kateboard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epic poem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mes Sp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3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429000" y="0"/>
            <a:ext cx="2133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REDI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669960"/>
            <a:ext cx="655344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o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Kick Push - Lupe Fia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ritten, Directed, Produced and Everything 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James Sp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ank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mily Toth- for creativ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my Spence- without her I would not have been here to make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457200"/>
            <a:ext cx="312444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and paper grip tap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der rubber s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more I kic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quicker it ro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3276720"/>
            <a:ext cx="35053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eel every imperfec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f the road I g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lowly becomes part of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 I rid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2886120" cy="2886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51055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562720" y="838080"/>
            <a:ext cx="335268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 I crouch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 into my groove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nk about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y next mov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09880"/>
            <a:ext cx="35049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ope I won'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ust my li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ying to land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s kick flip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990720"/>
            <a:ext cx="48765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lide right foot back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ush down in rear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ve left foot up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n pull it nea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762360"/>
            <a:ext cx="388620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l these though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un so fast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ust complete th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efore this moments passed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838080"/>
            <a:ext cx="3429000" cy="28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638680" y="609480"/>
            <a:ext cx="42674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 these seconds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 the ai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try to a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o much flai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886200"/>
            <a:ext cx="48765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 I fal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"OH NO!", I cry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’m no professional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kater guy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232416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47920" y="380880"/>
            <a:ext cx="3905280" cy="26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533520"/>
            <a:ext cx="350496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ife flashes b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 I r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to the pave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ith my fac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3505320"/>
            <a:ext cx="44956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luctantly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 I ble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get back u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n my feet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4657680" cy="31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3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80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3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95680" y="533520"/>
            <a:ext cx="46483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it out some bloo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n I swear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fortunately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o much I car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3505320"/>
            <a:ext cx="37335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Jump back on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 try aga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s time I hope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at I w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450"/>
                            </p:stCondLst>
                            <p:childTnLst>
                              <p:par>
                                <p:cTn id="12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9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7280" y="150840"/>
            <a:ext cx="2893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rouched down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restar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ybe if I give i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just a little more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1143000"/>
            <a:ext cx="408960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581280"/>
            <a:ext cx="3657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o through the move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just a bit more gentle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lowing through me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h so natura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0"/>
            <a:ext cx="4419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y wheels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afe on the 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y hear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egins to poun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457200"/>
            <a:ext cx="4038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eet planted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n woo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at tric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just goo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2241720"/>
            <a:ext cx="4419360" cy="4389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53080" y="4175280"/>
            <a:ext cx="35053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etter than tha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t was amaz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h how I thin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will love sk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45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9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0:06:44Z</dcterms:created>
  <dc:creator>spence</dc:creator>
  <dc:description/>
  <dc:language>en-US</dc:language>
  <cp:lastModifiedBy>spence</cp:lastModifiedBy>
  <dcterms:modified xsi:type="dcterms:W3CDTF">2008-02-27T02:09:38Z</dcterms:modified>
  <cp:revision>2</cp:revision>
  <dc:subject/>
  <dc:title>Slide 1</dc:title>
</cp:coreProperties>
</file>